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3BC1-41CD-4A33-81BC-58D839E88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3B6C-7C3C-4765-80DC-6620F41E0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B6E7-80FA-459D-8F19-97E97FE84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E521-5403-4406-BA62-55841C3D3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C959-2092-4047-8A1F-FC79542A8F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BE30-2F5C-428A-BD27-62DF476427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8E18-1213-4F9B-99DD-23883D54D4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A7B4-A5CD-4273-9C26-DDE133379D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FD95-0816-4089-8F84-B99DF6626C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3180-B443-4D14-8536-60E2E29CDF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3FE88-3250-4B2B-ACEE-193C5A2BF6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705E-44EE-4861-AA1B-E00646EA2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C19D-D587-435A-A6D5-7E03D54359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5EDB2-2C1D-4A3D-B74C-F37653EA9E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D2098-9007-4E05-93F2-7ACCE1C455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CBDFA-0168-4D59-B966-4064309D32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57BE8-075D-4A5C-A484-354FEDC564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D537-53D9-4F03-B659-1743EABE1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A87D-09E1-458C-B283-9CC2FEA05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3DF6-A455-4A54-AF76-7451F5B73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DC49-2CF8-4781-AEAE-5DA8180D3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BBE5-9DB1-4877-8ED2-69F0616DE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B3E2-193B-4BB0-BB97-C1C358505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1E10-BB64-46E1-B168-B4F8F8E41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FA30-32C5-4ABD-B1EE-1C0B144A4B99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0F81-2824-446E-B1B0-03E7AA16B5BA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sln.org.uk/geography/flash/cannock01.swf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Drawing things together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About how the scenery is changed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F6FF-3F2B-4916-BC77-9D0E7A10B4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Ice Erosion is 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 what you will meet in the next couple of week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8C22-F760-43C0-B74A-FA3F18C165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ransportat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s the movement of eroded material by water, wind or ic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d is a bit difficult to see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55640" y="2781360"/>
            <a:ext cx="4557600" cy="3417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508720" y="2924280"/>
            <a:ext cx="3238560" cy="26542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But here is a lot of sediment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n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hat is a tree trunk floating down the River Wye last Octob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537B-95B7-4297-B8AD-28359C1EED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ransportat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d here we have the wind doing some transport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508720" y="2924280"/>
            <a:ext cx="3238560" cy="26542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his one was taken in Iraq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he soldier who took the picture said they have at least one of these a week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41608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8A17-C5DB-4E60-9035-475ADDA861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eposition is a bit easier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s what happens when the wind or the water or ice runs out of energy and drops whatever it is carry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076720" y="2924280"/>
            <a:ext cx="3888000" cy="338580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Kiama Downs Beach, just north of Sydne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Where is that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See those rocks in the foreground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They are being eroded away and will end up on the beach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4465440" cy="29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BE91-6D24-45F2-B8B3-C17AD4EA71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eposition is a bit easier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s what happens when the wind or the water or ice runs out of energy and drops whatever it is carry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2924280"/>
            <a:ext cx="3888000" cy="146556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Sand dun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Location: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Sabria, Tunisia</a:t>
            </a:r>
            <a:r>
              <a:rPr b="0" lang="en-GB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4535280" cy="30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8D4C-79ED-45EE-AA3D-E62E723048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eposition is a bit easier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s what happens when the wind or the water or ice runs out of energy and drops whatever it is carry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2924280"/>
            <a:ext cx="3888000" cy="73404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Mississippi Delta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4248000" cy="32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326D-AE9A-4BBC-8B22-6F06290F72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eview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1. What ere the 4 processes involved in changing the scenery? And what do each do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2. What are the 3 agents of eros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3. We saw various pictures – these examples of which processes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84360" y="4437000"/>
            <a:ext cx="7704000" cy="1952640"/>
            <a:chOff x="684360" y="4437000"/>
            <a:chExt cx="7704000" cy="1952640"/>
          </a:xfrm>
        </p:grpSpPr>
        <p:pic>
          <p:nvPicPr>
            <p:cNvPr id="213" name="" descr=""/>
            <p:cNvPicPr/>
            <p:nvPr/>
          </p:nvPicPr>
          <p:blipFill>
            <a:blip r:embed="rId4"/>
            <a:stretch/>
          </p:blipFill>
          <p:spPr>
            <a:xfrm>
              <a:off x="684360" y="4437000"/>
              <a:ext cx="2577960" cy="19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5"/>
            <a:stretch/>
          </p:blipFill>
          <p:spPr>
            <a:xfrm>
              <a:off x="3267000" y="4437000"/>
              <a:ext cx="2519280" cy="19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6"/>
            <a:stretch/>
          </p:blipFill>
          <p:spPr>
            <a:xfrm>
              <a:off x="5796000" y="4444920"/>
              <a:ext cx="2592360" cy="19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EEAD-63D5-4876-B2DA-D7680D4996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s I said we are going to look at the features of the landscape caused by ic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Comic Sans MS"/>
                <a:hlinkClick r:id="rId3"/>
              </a:rPr>
              <a:t>http://www.sln.org.uk/geography/flash/cannock01.swf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Or it is on the wiki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t is a bit of a pain                                                     to get into – just                                                    keep pressing nex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4572000" y="3068640"/>
            <a:ext cx="4105440" cy="3646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rot="2160000">
            <a:off x="3850920" y="5516640"/>
            <a:ext cx="1469880" cy="156960"/>
          </a:xfrm>
          <a:prstGeom prst="rightArrow">
            <a:avLst>
              <a:gd name="adj1" fmla="val 50000"/>
              <a:gd name="adj2" fmla="val 234117"/>
            </a:avLst>
          </a:prstGeom>
          <a:solidFill>
            <a:srgbClr val="cc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0C56-4155-4233-8704-21127A7A9A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o far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 looked 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y different types of rock and how they are forme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Different rock gives rise to different scenery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n we had  a small diversion into practical uses of rock and the implications of quarrying out on the environment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 we are now going back to scenery but from a different angl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6B1E-ADB5-4A3A-BA8E-838D97F2B3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200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Do you remember what were the 2 types of processes that create sediment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3060B-C7D3-4F78-A8F4-B7BF90891E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ooking at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weathering</a:t>
            </a: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 briefly firs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re are 3 broad types of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.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.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.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an you remember how each works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CFAF-995B-4B3D-BE7B-EFBC4E79FD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does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erosion</a:t>
            </a: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 mean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Do you remember what we said was also part of erosion- what tended to happen afterwards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 we have 2 other processes following i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ransportatio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epositio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re are various ways that rock can be worn away – depends a bit what was is doing it (these are called agents of erosion)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agents of erosion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– the things that wear the rock away? (3 all together)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FD0F-5DAF-4844-913D-95C9C489B3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ind Eros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63640" y="1324080"/>
            <a:ext cx="5616720" cy="4213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79640" y="537372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ypical sharp-edged wind erosion Grand Cany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D1BC-C477-4A03-AC00-242700891D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ater Erosion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(Near the source of a river)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772160"/>
            <a:ext cx="3311640" cy="155700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Notice the 'V' profile, absence of vegetation and steep slop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1080" y="3245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2646360" cy="3529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356000" y="1052640"/>
            <a:ext cx="3888000" cy="3389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643280" y="4797360"/>
            <a:ext cx="3024360" cy="119124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How a waterfall and gorge are form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5FD1-7D31-4657-9072-9C5511A80D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ater Erosion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(Nearer the mouth of a river)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901080" y="3245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4797360"/>
            <a:ext cx="5543640" cy="8254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See how the edge of this river has been eroded to form a river cliff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51656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DF00-F4D8-4297-BFDC-D8C6B4FF8B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ater Erosion  - Coas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901080" y="3245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009800" y="1149480"/>
            <a:ext cx="6875280" cy="50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1678-C9A5-4113-917D-A3D4ECCD4B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0:31:26Z</dcterms:created>
  <dc:creator>Lindy</dc:creator>
  <dc:description/>
  <dc:language>en-US</dc:language>
  <cp:lastModifiedBy>Lindy</cp:lastModifiedBy>
  <dcterms:modified xsi:type="dcterms:W3CDTF">2009-01-25T14:36:21Z</dcterms:modified>
  <cp:revision>6</cp:revision>
  <dc:subject/>
  <dc:title>Drawing things togeth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